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50.png" ContentType="image/png"/>
  <Override PartName="/ppt/media/image5.jpeg" ContentType="image/jpeg"/>
  <Override PartName="/ppt/media/image40.png" ContentType="image/png"/>
  <Override PartName="/ppt/media/image61.jpeg" ContentType="image/jpeg"/>
  <Override PartName="/ppt/media/image51.png" ContentType="image/png"/>
  <Override PartName="/ppt/media/image4.jpeg" ContentType="image/jpeg"/>
  <Override PartName="/ppt/media/image12.png" ContentType="image/png"/>
  <Override PartName="/ppt/media/image23.jpeg" ContentType="image/jpeg"/>
  <Override PartName="/ppt/media/image49.png" ContentType="image/png"/>
  <Override PartName="/ppt/media/image64.gif" ContentType="image/gif"/>
  <Override PartName="/ppt/media/image57.png" ContentType="image/png"/>
  <Override PartName="/ppt/media/image32.jpeg" ContentType="image/jpeg"/>
  <Override PartName="/ppt/media/image14.png" ContentType="image/png"/>
  <Override PartName="/ppt/media/image67.jpeg" ContentType="image/jpeg"/>
  <Override PartName="/ppt/media/image21.png" ContentType="image/png"/>
  <Override PartName="/ppt/media/image6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66.png" ContentType="image/png"/>
  <Override PartName="/ppt/media/image63.gif" ContentType="image/gif"/>
  <Override PartName="/ppt/media/image25.png" ContentType="image/png"/>
  <Override PartName="/ppt/media/image62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24.png" ContentType="image/png"/>
  <Override PartName="/ppt/media/image28.jpeg" ContentType="image/jpeg"/>
  <Override PartName="/ppt/media/image11.jpeg" ContentType="image/jpe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19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26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9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30.jpeg" ContentType="image/jpeg"/>
  <Override PartName="/ppt/media/image34.png" ContentType="image/png"/>
  <Override PartName="/ppt/media/image35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39D5-C2E2-4643-8621-77C542E4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3B2D-B886-4DAF-A728-DDC6CE3E2A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8E09-AE14-4A4E-9399-5DF09EAC9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89F-7D2D-43BD-B522-245D575E3E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49F-3A46-4114-97F2-81CF8E2EA6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A624-6343-4F46-93C3-7A3EFD0CB2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256C-8088-4386-BF20-20A1992D2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8C4-4FE6-4085-B00C-23C47F399D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C5CE-2C6C-4247-8E00-ED8665136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F1F-ECD8-4B44-B58E-219EC0FFD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5981-DB8A-4282-B530-B8A358999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567-7E35-4B27-8A5C-1403B1727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9762-7097-4865-83DD-4ED564F21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8A2-8C09-465B-938F-CFE8935D2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3BAF-29C5-45B6-963E-E9708DAD35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7170-F749-46DA-87DB-3A38E795E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0C91-6EEC-42D5-A6E8-B5B3A460FF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4E7-BF9E-4DC5-997A-43618A807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BCE-F9EC-4FC8-8C15-2A84871A3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4CDC-B7F7-42B6-BA46-6BB37298FC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CE6-CC94-4435-917F-5DA96DE98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84A1-C6A9-4BA9-8813-F18C11F63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DFC-D6C5-4710-9AE2-22532AD4BF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2465-8772-43E4-911A-E291FEC86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AD5D-C757-4FC9-AD7F-5D49B9179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3D23-6AC6-4EF3-9CC3-45F60A85E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291-D3CB-4AE0-81E6-E60ECDCE8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32C-453D-404D-BA72-6F2B58308B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2380-2876-4F7B-BC6F-A60CD8375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F9E-8F83-4432-BE84-3BCEBB4971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DE70-9A43-449D-88BA-886F8027B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7FC8-4EA1-49DD-8BF9-BAEF56DB29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B29-3AC5-47F8-BF3E-D8AEB7B826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BCAB-9A4B-4869-A7EC-98300E9CF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635B-3BE4-4AE8-A81C-840CB3EE5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12C9-F7B1-49B1-9345-F6275B22A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D8B-0F56-45B6-9377-E7B98171B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A949-C7E9-423F-AB7D-1893C6C00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68C7-8A94-41CB-98D5-389DD6A39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1DC-D6E6-4820-99F8-A416F8FD20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6E5-89A9-480D-85BD-724BB82210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83A7-9EA0-4F8B-A084-E9DED0999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6C3-16F4-4BE2-8193-0E9FB351E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198F-ACA2-41FF-8CDA-A8B34EFE8E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E50-3EBE-422D-A3AB-2C327D3D51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2D32-31CA-48F3-A41E-4A26715F5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B25C-AE6C-4BCE-BE86-A697C93927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49A3-26CB-47AE-827E-2CD686DAB9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B9D6-3CFF-422D-8C4A-646D19F2D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E1CD-919C-42C4-AD52-1A62F63A82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7169-F2EA-41A6-A8D4-D84EDBFC4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5820-7291-4B71-AFCF-A2B72C9FC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4F0-DF75-4A0F-91D9-9B35138C6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B07-ACCE-4BEC-8ED1-08CB1B6EC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FF1-922A-48DA-9CD9-2DC7E6F5C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649-082F-48A9-862B-86B688ABF0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0EBD-3DAF-4050-8909-E1B6D084C2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72F2-5335-4DEB-9FE5-3CAEA8F9E6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550-B374-4DC6-AB80-7EBE87100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032B-2F1F-48AD-99B3-6CC936954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1BCA-0786-40D4-A552-357BB73B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C8CA-EE24-4B06-8439-FA3120D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A7AF-0C8C-46D0-9CF8-BE5D6828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6D38-C830-4D28-9824-9EA9D77F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D979-B2D7-4DD6-9B30-C2900AA4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CE41-F23B-48BA-A210-006A7A28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E51-FBEB-4369-ADBE-338715B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FB1-C368-4948-A460-6A1EA2C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EBA-04F5-44C4-964A-39CBEC4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885A-B74C-4341-97E3-DC47BA2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B11-7D57-4870-A606-8D8543A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EB81-6AE3-41AF-A351-549262E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99D-37A0-4A5D-9F3C-3A731FA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4BF6-14B8-492D-AE29-102BAE6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769C-FC46-43B3-B7EB-6680AE24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96BD-0A26-473E-9474-5A86FA30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AEB1-9ED5-4076-B375-68A3400A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93D4-6489-4D2E-9BCE-CC314E38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D288-24B5-4C88-8787-BEB2C39B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2A21-D844-4839-B05E-92B8A66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A856-C0A6-40A5-83F7-EE835AD3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20CC-DC25-4308-A19D-AEEAF1B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0757-1330-4EEC-91CD-0DF4CCE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BF81-8114-4DBC-991A-B4373E3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548A-29D7-4F2F-9478-6C1AA3C12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609-06BE-4A03-850E-A961A0BBE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udentreader.com/files/polarvsnonpolarcellsignals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arbl.cvmbs.colostate.edu/hbooks/pathphys/endocrine/basics/steroidogenesis.gif" TargetMode="External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55280" y="2491920"/>
            <a:ext cx="8064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ванаеста недељ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БИОХЕМИЈА ХОРМ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samo-logo"/>
          <p:cNvPicPr/>
          <p:nvPr/>
        </p:nvPicPr>
        <p:blipFill>
          <a:blip r:embed="rId1"/>
          <a:stretch/>
        </p:blipFill>
        <p:spPr>
          <a:xfrm>
            <a:off x="0" y="0"/>
            <a:ext cx="175248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763640" y="404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А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, Б3, дванаеста недељ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тедра за медицинску биохем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ff00"/>
                </a:solidFill>
                <a:latin typeface="Arial"/>
              </a:rPr>
              <a:t>ИМУНСКИ СИСТ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R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посредује у одговору на спољашње и унутрашње претње организ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immune%20system"/>
          <p:cNvPicPr/>
          <p:nvPr/>
        </p:nvPicPr>
        <p:blipFill>
          <a:blip r:embed="rId1"/>
          <a:stretch/>
        </p:blipFill>
        <p:spPr>
          <a:xfrm>
            <a:off x="457200" y="205740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sr-Latn-CS" sz="2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Гликохемоглобин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b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c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исутни с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 еритроцит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где настају и под нормалним условима, спонтано, н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ензимски, ковалентним везивањем хемоглобина и глук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центрација гликохемоглобина зависи од просечне концентрације глукозе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2-3 месец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пре мер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тога је концентрација гликохемоглобина важна 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праћењу и контролисању шећерне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Вредности гликохемоглобина се изражавају као проценат укупног хемоглобина у крви и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нормалн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износе од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5%-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од дијабетичара, вредност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b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c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су веће од 1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3. Ацетонска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(кетонска)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тела у крви и урину (ацетонемија и ацетонурија)</a:t>
            </a:r>
            <a:r>
              <a:rPr b="1" lang="sr-Latn-CS" sz="44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недостатку инсулина, смањено је искоришћавање глукозе у ћелијама, односно у питању је интраћелијски недостатак глукозе (иако је у крви има и превише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Услед дефицита глукозе у ћелијам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последично се јавља и недостатак оксалацетата који је неопходан за отпочињ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е циклуса трикарбо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силних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исе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а друге стране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ојачан је катаболизам масти, односно масних кисели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. Катаболисањем масних киселина стварају се молекули ацетил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који се нагомилавају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јер не могу адекватно да се разграђују циклусом трикарбо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силних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киселина због дефицита окса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Из нагомиланих молекула ацетил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А се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ојачано синтетишу ацетонска тела у јетри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чија се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нцентрација у крви значајно повећа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ацетонемија или КЕТОНЕМИЈ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а такође се ова једињења појављују и у урину (ацетонурија или КЕТОНУРИЈА)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што се иначе не дешава под нормалним околнос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Због тога су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ацетонемиј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ацетонуриј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лабораторијски знаци поодмакле шећерне боле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Екстремно повећање концентрације кетонских тела може бити праћено поремећајем ацидо-базне равнотеже, јер се развија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метаболичка кетоацид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1221120" y="457200"/>
            <a:ext cx="25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ГЛУКАГ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6" descr="http://www.elmhurst.edu/~chm/vchembook/images/614glucagon.gif"/>
          <p:cNvPicPr/>
          <p:nvPr/>
        </p:nvPicPr>
        <p:blipFill>
          <a:blip r:embed="rId1"/>
          <a:stretch/>
        </p:blipFill>
        <p:spPr>
          <a:xfrm>
            <a:off x="5676840" y="6858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-736560" y="1371600"/>
            <a:ext cx="9623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Антагонистички хормон инсул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липепти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9 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ишу га и луче 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ел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ендокриног панкреас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ао одговор на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ни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концентрацију глукозе у кр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Главни ефекат глукагона је ХИПЕРГЛИКЕ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36440" y="13161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3880" y="263520"/>
            <a:ext cx="562464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8" descr="http://www.reactome.org/figures/glucagon1.jpg"/>
          <p:cNvPicPr/>
          <p:nvPr/>
        </p:nvPicPr>
        <p:blipFill>
          <a:blip r:embed="rId1"/>
          <a:stretch/>
        </p:blipFill>
        <p:spPr>
          <a:xfrm>
            <a:off x="6019920" y="1219320"/>
            <a:ext cx="3124080" cy="52578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1754280" y="228600"/>
            <a:ext cx="39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Ефекат глукаго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669960" y="1208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65600" y="1106640"/>
            <a:ext cx="59626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ске концентрације глукозе у кр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имулишу лучење глукагона у крво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и се транспортује до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јетре и масн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к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зивањем за своје рецепторе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епатоцитима и адипоцитима, активи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отеин киназ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реко каскаде сигнал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ансдукције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протеина, аденил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циклазе,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AMP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и протеин киназе 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КИНАЗЕ фосфорилиш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и активира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етаболичке ензиме </a:t>
            </a:r>
            <a:r>
              <a:rPr b="0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гликогенолиз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Глуконеогенезе, липоли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ранспорт хормона :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везаном или с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лободном  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облику до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циљног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ткива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где испољавају свој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делов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Лучење хо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на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периодично –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пулсно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– инсул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ли постоји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циркадијарни ритам кортизол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лога хормон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2800" spc="-1" strike="noStrike" u="sng">
                <a:solidFill>
                  <a:srgbClr val="ffff00"/>
                </a:solidFill>
                <a:uFillTx/>
                <a:latin typeface="Arial"/>
              </a:rPr>
              <a:t>усклађивање функције различитих органа и ткива на метаболичком нив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41040"/>
            <a:ext cx="9144000" cy="68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Да би остварио свој биолошки ефекат хормон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“препознаје” циљно ткиво преко специфичн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рецептора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за које се везу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Хормонски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рецептори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су по хемијској структури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протеини или протеиди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Између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хормона и рецептора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постоји просторна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подудар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  <a:ea typeface="Arial"/>
              </a:rPr>
              <a:t>Повезивање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хормона и рецептора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емијским вез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- 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  <a:ea typeface="Arial"/>
              </a:rPr>
              <a:t>рецептор се активир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  <a:ea typeface="Arial"/>
              </a:rPr>
              <a:t>проузрокује даље биохемиј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  <a:ea typeface="Arial"/>
              </a:rPr>
              <a:t>промене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у ћелиј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 затим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хормон-рецептор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мплек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оцесом ендоцито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влачи у унутрашњост ћел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Insuli4"/>
          <p:cNvPicPr/>
          <p:nvPr/>
        </p:nvPicPr>
        <p:blipFill>
          <a:blip r:embed="rId1"/>
          <a:stretch/>
        </p:blipFill>
        <p:spPr>
          <a:xfrm>
            <a:off x="5410080" y="3686040"/>
            <a:ext cx="37339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ормонски рецептори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14300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Животни век рецепт. – рециклизациј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а рецеп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олдж. апарат - сазревање и гликозила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уградња обликов. рецептора у мембра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комплекс хормон- рецеп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увлачење комплекса у унутр. ћел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рецептозо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о рецептозома се спаја са лизозом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о се обнавља и поново уграђује у мемб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На нивоу ћелије, постоје </a:t>
            </a:r>
            <a:r>
              <a:rPr b="1" lang="sl-SI" sz="3200" spc="-1" strike="noStrike">
                <a:solidFill>
                  <a:srgbClr val="ffff00"/>
                </a:solidFill>
                <a:latin typeface="Arial"/>
              </a:rPr>
              <a:t>три места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 где су локализовани </a:t>
            </a:r>
            <a:r>
              <a:rPr b="1" lang="sl-SI" sz="3200" spc="-1" strike="noStrike">
                <a:solidFill>
                  <a:srgbClr val="ffff00"/>
                </a:solidFill>
                <a:latin typeface="Arial"/>
              </a:rPr>
              <a:t>хормонски рецептори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ћелијској мембра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цитоплаз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јед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estr"/>
          <p:cNvPicPr/>
          <p:nvPr/>
        </p:nvPicPr>
        <p:blipFill>
          <a:blip r:embed="rId1"/>
          <a:stretch/>
        </p:blipFill>
        <p:spPr>
          <a:xfrm>
            <a:off x="3505320" y="4876920"/>
            <a:ext cx="259056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nsuli3"/>
          <p:cNvPicPr/>
          <p:nvPr/>
        </p:nvPicPr>
        <p:blipFill>
          <a:blip r:embed="rId2"/>
          <a:stretch/>
        </p:blipFill>
        <p:spPr>
          <a:xfrm>
            <a:off x="1447920" y="1981080"/>
            <a:ext cx="2923920" cy="23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ytoplasmichormonereceptor"/>
          <p:cNvPicPr/>
          <p:nvPr/>
        </p:nvPicPr>
        <p:blipFill>
          <a:blip r:embed="rId3"/>
          <a:stretch/>
        </p:blipFill>
        <p:spPr>
          <a:xfrm>
            <a:off x="5715000" y="1981080"/>
            <a:ext cx="317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Arial"/>
                <a:ea typeface="Arial"/>
              </a:rPr>
              <a:t>Према </a:t>
            </a:r>
            <a:r>
              <a:rPr b="0" lang="sl-SI" sz="3600" spc="-1" strike="noStrike">
                <a:solidFill>
                  <a:srgbClr val="ffff00"/>
                </a:solidFill>
                <a:latin typeface="Arial"/>
                <a:ea typeface="Arial"/>
              </a:rPr>
              <a:t>хемијској структури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  <a:ea typeface="Arial"/>
              </a:rPr>
              <a:t> хормони се деле </a:t>
            </a:r>
            <a:r>
              <a:rPr b="1" lang="sl-SI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хормоне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протеинске 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или пептидне природе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соматотропни хормон, инсулин, глукагон, паратхормон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хормоне деривате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аминокиселина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тироксин, тријодтиронин, адреналин, норадреналин, допамин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хормоне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стероидне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 природе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кортикостероиди, полни хормони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хормоне деривате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арахидонске киселине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(еикосаноиди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14720" y="228600"/>
            <a:ext cx="7483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Прем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чко-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хемијским особинама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хормони   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98160" y="1371600"/>
            <a:ext cx="865548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Хидросолубилни хорм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-  транспорт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слободном обли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ипосолубилни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хорм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- т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ранспортују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везан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 за  глобулине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 крвне пла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Биолошку активност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испољавају само хорм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у слободном обли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Хормони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у везаном облику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представљају његов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циркулишућу резер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figure10-1"/>
          <p:cNvPicPr/>
          <p:nvPr/>
        </p:nvPicPr>
        <p:blipFill>
          <a:blip r:embed="rId1"/>
          <a:stretch/>
        </p:blipFill>
        <p:spPr>
          <a:xfrm>
            <a:off x="5869080" y="838080"/>
            <a:ext cx="3274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47600" y="152280"/>
            <a:ext cx="671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ИЗАМ ДЕЛОВА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ХИДРОСОЛУБИЛНИ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ОРМОНА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0640" y="1419120"/>
            <a:ext cx="903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Хидросолубилни хормони с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теин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птиди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еривати аминокисе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у у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могућ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а про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роз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у мембра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Везују се за своје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рецепторе на спољашњој стра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лазма мемб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polarvsnonpolarcellsignal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191120"/>
            <a:ext cx="3695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1371600"/>
            <a:ext cx="922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зивањем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хидросолубилног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хормо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за рецептор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на плаз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мембран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цептор се активира и 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ији ут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на стварањ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ињења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екундарног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асн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говор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з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ропагаци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ејства хормона унутар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ћ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л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04920" y="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ИЗАМ ДЕЛОВА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ХИДРОСОЛУБИЛНИ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ОРМ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Hormoni1"/>
          <p:cNvPicPr/>
          <p:nvPr/>
        </p:nvPicPr>
        <p:blipFill>
          <a:blip r:embed="rId1"/>
          <a:stretch/>
        </p:blipFill>
        <p:spPr>
          <a:xfrm>
            <a:off x="1981080" y="3200400"/>
            <a:ext cx="44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802800"/>
            <a:ext cx="92962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Секундарни гласниц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 омогућавају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пренос информација од хормона до ћелијског одговора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cAMP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aје рaз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дњом ATP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cGMP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aје рaз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дњом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P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inozitol-3-fosfat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aје рaз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дњом ф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с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ли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и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кoj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 u с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aв ћелиј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мe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брaн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Di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l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glic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aје рaз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дњом фos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ли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и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0" lang="sl-SI" sz="2800" spc="-1" strike="noStrike" baseline="30000">
                <a:solidFill>
                  <a:srgbClr val="ffff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неки ензими – т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роз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н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киназа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04920" y="2286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ИЗАМ ДЕЛОВА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ХИДРОСОЛУБИЛНИ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ОРМ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ХОРМОН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5800" y="4844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потиче од грчке речи кој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и надражити или  покрену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optima23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386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Циклични аденозин-монофосфат – cAMP</a:t>
            </a: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0480" y="1444680"/>
            <a:ext cx="534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ивањем хормона (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адреналин, глукаг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) за рецептор, активира се мембрански енз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Аденилат циклаз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и катализује циклизацију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ATP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у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cAMP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ктивност аденилат циклаз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егулишу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проте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first_2"/>
          <p:cNvPicPr/>
          <p:nvPr/>
        </p:nvPicPr>
        <p:blipFill>
          <a:blip r:embed="rId1"/>
          <a:stretch/>
        </p:blipFill>
        <p:spPr>
          <a:xfrm>
            <a:off x="5410080" y="152280"/>
            <a:ext cx="350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first_3"/>
          <p:cNvPicPr/>
          <p:nvPr/>
        </p:nvPicPr>
        <p:blipFill>
          <a:blip r:embed="rId2"/>
          <a:stretch/>
        </p:blipFill>
        <p:spPr>
          <a:xfrm>
            <a:off x="5410080" y="2438280"/>
            <a:ext cx="3505320" cy="198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first_4"/>
          <p:cNvPicPr/>
          <p:nvPr/>
        </p:nvPicPr>
        <p:blipFill>
          <a:blip r:embed="rId3"/>
          <a:stretch/>
        </p:blipFill>
        <p:spPr>
          <a:xfrm>
            <a:off x="5410080" y="4495680"/>
            <a:ext cx="3505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Циклични аденозин-монофосфат – cAMP</a:t>
            </a: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58" name="Picture 6" descr="g protein"/>
          <p:cNvPicPr/>
          <p:nvPr/>
        </p:nvPicPr>
        <p:blipFill>
          <a:blip r:embed="rId1"/>
          <a:stretch/>
        </p:blipFill>
        <p:spPr>
          <a:xfrm>
            <a:off x="6629400" y="838080"/>
            <a:ext cx="2514600" cy="6019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4320" y="838080"/>
            <a:ext cx="662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ротеини се састоје од т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убјединиц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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Неактив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блик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рoтeинa сaдр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GDP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езан за </a:t>
            </a:r>
            <a:r>
              <a:rPr b="0" lang="sr-CS" sz="2800" spc="-1" strike="noStrike">
                <a:solidFill>
                  <a:srgbClr val="ffff00"/>
                </a:solidFill>
                <a:latin typeface="Symbol"/>
                <a:ea typeface="Symbol"/>
              </a:rPr>
              <a:t>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субједини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ивањeм хормoнa зa рeцeптo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активира сe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ротеин при че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олази до замене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GDP-a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G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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субједин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Активн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субјединиц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e одвaja oд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субјединице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ујe сe и активир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aдeнилaт цикла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572000" y="3506760"/>
            <a:ext cx="3481560" cy="3351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tp"/>
          <p:cNvPicPr/>
          <p:nvPr/>
        </p:nvPicPr>
        <p:blipFill>
          <a:blip r:embed="rId2"/>
          <a:stretch/>
        </p:blipFill>
        <p:spPr>
          <a:xfrm>
            <a:off x="609480" y="3645000"/>
            <a:ext cx="3463920" cy="3213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6554160" y="2590920"/>
            <a:ext cx="1759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GLUKAGO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ADRENA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7467480" y="5867280"/>
            <a:ext cx="914400" cy="838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878000" y="6200640"/>
            <a:ext cx="126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3300"/>
                </a:solidFill>
                <a:latin typeface="Arial"/>
              </a:rPr>
              <a:t>Gladovan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3300"/>
                </a:solidFill>
                <a:latin typeface="Arial"/>
              </a:rPr>
              <a:t>s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Циклични аденозин-монофосфат 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08880" y="990720"/>
            <a:ext cx="87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денилат циклаза -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циклизације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T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cAMP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уз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здвајaњ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AMP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алостeриjски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aктиватор протеин киназе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 (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C2R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C2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блик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отеин киназа - фосфорилацију проте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активацију или инхибицију енз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295280" y="5334120"/>
            <a:ext cx="990720" cy="1143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9296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Инозитол-трифосфат – IP3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и диацилглицерол-DAG</a:t>
            </a: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69" name="Picture 5" descr="sekundarni glasnici 1"/>
          <p:cNvPicPr/>
          <p:nvPr/>
        </p:nvPicPr>
        <p:blipFill>
          <a:blip r:embed="rId1"/>
          <a:stretch/>
        </p:blipFill>
        <p:spPr>
          <a:xfrm>
            <a:off x="3962520" y="2438280"/>
            <a:ext cx="5181480" cy="4273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18720" y="533520"/>
            <a:ext cx="8177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зивање хормона за рецептор активир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те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тиван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теин - активира мембрански енз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осфолипаз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а разлаже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осфатидил-инозитол н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P3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P3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вeзуј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онске канале 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стимулише излазак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цитоплаз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везује 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алмоду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4Ca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тализује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осфорилац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з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A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тивир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киназ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Инозитол-трифосфат – IP3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и диацилглицерол-DAG</a:t>
            </a:r>
            <a:r>
              <a:rPr b="1" lang="en-GB" sz="3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Јонизован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мишићну контрак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неуромускуларну контрак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пренос хормонских сигн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Хормони који делују преко фосфолипазе Ц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вазопресин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H, GnR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845640" y="228600"/>
            <a:ext cx="54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ирозин киназни рецеп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Slide2"/>
          <p:cNvPicPr/>
          <p:nvPr/>
        </p:nvPicPr>
        <p:blipFill>
          <a:blip r:embed="rId1"/>
          <a:stretch/>
        </p:blipFill>
        <p:spPr>
          <a:xfrm>
            <a:off x="4572000" y="266688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-39240" y="1143000"/>
            <a:ext cx="9256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зивањем хормона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нсулин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фактори рас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з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розин киназне рецепторе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убјединиц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ствара 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тивн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мер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ирозин киназ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аутофосфорилациј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ивна тирозин кин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Фосфорил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ш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нтраћелијск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роте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као шт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је проте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ковалент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модифик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ен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зим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ekundarni glasnici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413760" y="4800600"/>
            <a:ext cx="1287000" cy="398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osfata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990720" y="4038480"/>
            <a:ext cx="480060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Insuli1"/>
          <p:cNvPicPr/>
          <p:nvPr/>
        </p:nvPicPr>
        <p:blipFill>
          <a:blip r:embed="rId1"/>
          <a:stretch/>
        </p:blipFill>
        <p:spPr>
          <a:xfrm>
            <a:off x="324000" y="152280"/>
            <a:ext cx="85150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Липосолубилни хормони (стероидни)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пролазе кроз фосфолипидни двослој ћелијске мембране и везују се за рецепторе који су локализовани </a:t>
            </a:r>
            <a:r>
              <a:rPr b="1" lang="sl-SI" sz="2400" spc="-1" strike="noStrike" u="sng">
                <a:solidFill>
                  <a:srgbClr val="ffff00"/>
                </a:solidFill>
                <a:uFillTx/>
                <a:latin typeface="Arial"/>
              </a:rPr>
              <a:t>у цитоплазми ћел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Настали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комплекс хормон-рецеп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се транспортује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до једра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, где се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везује за DNK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, контролише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експресију гена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и на тај начин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синтезу протеина – структурних и функционалних (ензи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-360" y="-916200"/>
            <a:ext cx="89154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Arial"/>
              </a:rPr>
              <a:t>  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ХАНИЗАМ ДЕЛОВАЊА ХОРМОНА ЧИЈИ СУ РЕЦЕПТОРИ ЛОКАЛИЗОВАНИ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ЦИТОПЛАЗМИ</a:t>
            </a:r>
            <a:r>
              <a:rPr b="0" lang="en-US" sz="4400" spc="-1" strike="noStrike">
                <a:solidFill>
                  <a:srgbClr val="e5e5ff"/>
                </a:solidFill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82" name="Picture 5" descr="Hormoni2"/>
          <p:cNvPicPr/>
          <p:nvPr/>
        </p:nvPicPr>
        <p:blipFill>
          <a:blip r:embed="rId1"/>
          <a:stretch/>
        </p:blipFill>
        <p:spPr>
          <a:xfrm>
            <a:off x="2209680" y="44956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тироксин, тријодтир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нин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деривати аминокиселина , хидросолубилни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пролазе кроз ћел. мембрану, улазе у ћелију и једро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везују се за рецептор који се налази на нивоу D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Mодулацију експресије одговарајућег ге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- стимулишу синтезу iRN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- стимулишу синтезу протеина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85480" y="533520"/>
            <a:ext cx="87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МЕХАНИЗАМ ДЕЛОВАЊА ХОРМОНА ЧИЈ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СУ РЕЦЕПТОРИ ЛОКАЛИЗОВАНИ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НА НИВОУ D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ormoni"/>
          <p:cNvPicPr/>
          <p:nvPr/>
        </p:nvPicPr>
        <p:blipFill>
          <a:blip r:embed="rId1"/>
          <a:stretch/>
        </p:blipFill>
        <p:spPr>
          <a:xfrm>
            <a:off x="4876920" y="3200400"/>
            <a:ext cx="3733560" cy="3405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68200" y="380880"/>
            <a:ext cx="8877600" cy="60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рганска једињења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различите хемијске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Регулишу метаболичке процесе,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састав крви, раст, развој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нормално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нкционисање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Вишећелијски организми производе хормоне (преко 1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Смањена или повећ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синтез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орм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ремећај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тет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л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но у крв од стра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ндокриних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ж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езда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906768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ЕГУЛАЦИЈА ЛУЧЕЊА ХОРМОНА</a:t>
            </a:r>
            <a:r>
              <a:rPr b="1" lang="en-GB" sz="3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86" name="Picture 5" descr="regulacija hormona"/>
          <p:cNvPicPr/>
          <p:nvPr/>
        </p:nvPicPr>
        <p:blipFill>
          <a:blip r:embed="rId1"/>
          <a:stretch/>
        </p:blipFill>
        <p:spPr>
          <a:xfrm>
            <a:off x="5638680" y="2971800"/>
            <a:ext cx="34290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329400" y="1189080"/>
            <a:ext cx="77504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Х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ипоталамус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офиза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Ендокрина жлез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о одговор на стимуланс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хипоталаму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ослобађајуће фактор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Хипофиз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тропне хормон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ј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е ослобађају  у крв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транспортују до ендокриних жлез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де регулишу синтезу и луче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хормон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Контрола лучења хормона најчеш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се спроводи по принцип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feеdback инхиби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488200" y="41925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C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ЕГУЛАЦИЈА ЛУЧЕЊА ХОРМОНА</a:t>
            </a:r>
            <a:r>
              <a:rPr b="1" lang="en-GB" sz="32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Концентрација супстрата у крви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инсулин и глукагон (глукоза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калцитонин и паратхормон (Ca</a:t>
            </a:r>
            <a:r>
              <a:rPr b="0" lang="sl-SI" sz="24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ffff00"/>
                </a:solidFill>
                <a:latin typeface="Arial"/>
              </a:rPr>
              <a:t>Симпатички нервни систем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Адренал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- страх (flight or fight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глукоза, стр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hrendo7"/>
          <p:cNvPicPr/>
          <p:nvPr/>
        </p:nvPicPr>
        <p:blipFill>
          <a:blip r:embed="rId1"/>
          <a:stretch/>
        </p:blipFill>
        <p:spPr>
          <a:xfrm>
            <a:off x="5715000" y="1295280"/>
            <a:ext cx="3200400" cy="2316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96"/>
          <p:cNvPicPr/>
          <p:nvPr/>
        </p:nvPicPr>
        <p:blipFill>
          <a:blip r:embed="rId2"/>
          <a:stretch/>
        </p:blipFill>
        <p:spPr>
          <a:xfrm>
            <a:off x="4952880" y="4029120"/>
            <a:ext cx="3981600" cy="267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98"/>
          <p:cNvPicPr/>
          <p:nvPr/>
        </p:nvPicPr>
        <p:blipFill>
          <a:blip r:embed="rId3"/>
          <a:stretch/>
        </p:blipFill>
        <p:spPr>
          <a:xfrm>
            <a:off x="657360" y="4038480"/>
            <a:ext cx="38383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Инактивација хормона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азградња или модифик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Уношење комплекса хормон-рецептор у ћелију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спајање са лизозомом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азградња дејством лизозомалних енз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Смањење броја рецеп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-360" y="2133360"/>
            <a:ext cx="93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Соматотропин-ослобађајући фак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(стимули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S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Соматотропин-ослобађајући инхибиторни фак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(инхибира S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Гонадотропин-ослобађајући фак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(GRH) (стимули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F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и L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Кортикотропин-ослобађајући фак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(CRH) (стимули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AC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Тиреотропин-ослобађајући фак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(TRH) (стимули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TS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Пролактин-инхибирајући фактор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(допамин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) (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инхибира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прол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тин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51360" y="304920"/>
            <a:ext cx="64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ХОРМОНИ ХИПОТАЛАМУ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228600" y="1143000"/>
            <a:ext cx="9524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Хипоталамусни  ослобађајући фактори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пептиди, делују преко cAMP на адехипофи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52280" y="609480"/>
            <a:ext cx="8991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Хипоталамусни неуропептиди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Вазопресин или антидуретски хормон (AD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Окситоц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hipotalamus"/>
          <p:cNvPicPr/>
          <p:nvPr/>
        </p:nvPicPr>
        <p:blipFill>
          <a:blip r:embed="rId1"/>
          <a:stretch/>
        </p:blipFill>
        <p:spPr>
          <a:xfrm>
            <a:off x="5867280" y="358128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48320" y="13712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Аденохипоф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Соматотропни хормон (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STH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) или хормон ра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Ад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енокортикотропни хормон (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ACTH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Тиреостимулирајући хормон (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T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Фоликулостимулирајући фактор (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FSH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Лутеинизирајући фактор (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LH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Пролак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Неурохипофиза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Окситоц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Вазопресин или антидиуретски хормон (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ADH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24440" y="380880"/>
            <a:ext cx="52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cc"/>
                </a:solidFill>
                <a:latin typeface="Arial"/>
              </a:rPr>
              <a:t>ХОРМОНИ ХИПОФИЗ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7" descr="antpostpit"/>
          <p:cNvPicPr/>
          <p:nvPr/>
        </p:nvPicPr>
        <p:blipFill>
          <a:blip r:embed="rId1"/>
          <a:stretch/>
        </p:blipFill>
        <p:spPr>
          <a:xfrm>
            <a:off x="152280" y="1523880"/>
            <a:ext cx="44960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Соматотропни хормон -</a:t>
            </a:r>
            <a:r>
              <a:rPr b="0" lang="sr-Latn-CS" sz="4000" spc="-1" strike="noStrike">
                <a:solidFill>
                  <a:srgbClr val="ffff00"/>
                </a:solidFill>
                <a:latin typeface="Arial"/>
                <a:ea typeface="Arial"/>
              </a:rPr>
              <a:t> STH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минантан хормон аденохипофи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е структуре (191 а.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ује на све ћелије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чје доб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стимулише синтезу проте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раст хрскавичавог и кошта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раст у вис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Соматотропни хормон-</a:t>
            </a:r>
            <a:r>
              <a:rPr b="0" lang="sr-Latn-CS" sz="4000" spc="-1" strike="noStrike">
                <a:solidFill>
                  <a:srgbClr val="ffff00"/>
                </a:solidFill>
                <a:latin typeface="Arial"/>
                <a:ea typeface="Arial"/>
              </a:rPr>
              <a:t> STH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драс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тиче на продукцију фактора 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бнављања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чење с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ежбањем, емоционалним или физичким стре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 адреналином и кортизолом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тресним хормон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ормон раста – метаболички ефекти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делује прек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стимулиш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синтезу протеина и угљених хид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синтезу колаг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стимулише глуконео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активира липоли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1218960" y="152280"/>
            <a:ext cx="643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cc"/>
                </a:solidFill>
                <a:latin typeface="Arial"/>
              </a:rPr>
              <a:t>ХОРМОНИ ХИПОФИЗ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hipofiza1"/>
          <p:cNvPicPr/>
          <p:nvPr/>
        </p:nvPicPr>
        <p:blipFill>
          <a:blip r:embed="rId1"/>
          <a:stretch/>
        </p:blipFill>
        <p:spPr>
          <a:xfrm>
            <a:off x="5867280" y="3886200"/>
            <a:ext cx="2895840" cy="2730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76320" y="914400"/>
            <a:ext cx="83059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Соматотропни хормо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У дечјем доб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начаја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 нормалан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раст и разв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организ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Циљна ткива –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сва ткива организ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Стимулише синтезу проте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тиче на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позитиван азотни билан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тич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на продукцују фактора раста – у одраслом организ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етаболички ефект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Синтеза протеина и угљених хи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овећава гликем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ктивира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глуконеогенез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 је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масном ткиву активира липоли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Стресни хор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Дејство хормона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Регулатор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а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држање хомеостазе екстра- и интрацелуларне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теч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нормалан рад и функционисањ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Метаболизам соли,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, УХ, липида, проте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б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дговор на ургентна стањ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гладовање, трауме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нфекције, психички стре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ц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Репродуктивна ф-ј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гаматогенеза, сексуалн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нашање, исхрана фетуса, порођај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493920" y="533520"/>
            <a:ext cx="468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ХОРМОНИ ХИПОФИ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311120"/>
            <a:ext cx="784872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AC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гулише лучење хормона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ре надбубрежне жлезд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посебно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ртиз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T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улише лучења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тироксина и тријодтиронина из тироиде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регулише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лучење млек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периоду лактац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ОКСИТОЦ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Вазоконстрикција (материце, млечних жлез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ВАЗОПРЕСИН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или антидиуретски хормон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гулише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метаболизам в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Циљна ткива –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дистални и сабирни бубрежни кан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утиче на реапсорпцију 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FSH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L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регулишу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лучење полних хорм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hipofiza1"/>
          <p:cNvPicPr/>
          <p:nvPr/>
        </p:nvPicPr>
        <p:blipFill>
          <a:blip r:embed="rId1"/>
          <a:stretch/>
        </p:blipFill>
        <p:spPr>
          <a:xfrm>
            <a:off x="6629400" y="3040200"/>
            <a:ext cx="2438280" cy="2298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5013360" y="6040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47960" y="11426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Тироксин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- тетрајодтиронин-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T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Тријодтиронин - 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Калцито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tiroidea"/>
          <p:cNvPicPr/>
          <p:nvPr/>
        </p:nvPicPr>
        <p:blipFill>
          <a:blip r:embed="rId1"/>
          <a:stretch/>
        </p:blipFill>
        <p:spPr>
          <a:xfrm>
            <a:off x="609480" y="2209680"/>
            <a:ext cx="3581640" cy="24354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ХОРМОНИ ШТИТ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АСТ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 ЖЛЕЗДЕ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36160" y="228600"/>
            <a:ext cx="85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Синтеза хормона штитасте жлез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8" descr="24cf5hd"/>
          <p:cNvPicPr/>
          <p:nvPr/>
        </p:nvPicPr>
        <p:blipFill>
          <a:blip r:embed="rId1"/>
          <a:stretch/>
        </p:blipFill>
        <p:spPr>
          <a:xfrm>
            <a:off x="6019920" y="1066680"/>
            <a:ext cx="3124080" cy="331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400680" y="1523880"/>
            <a:ext cx="837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ироксин - тетрајодтиронин (Т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ријодтиронин (Т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алцито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у деривати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К ТИРО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Лучење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R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T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синтезу Т4 и Т3 неопходно присуство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Јода у тироиде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↑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интеза Т3 и Т4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↓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екрециј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негативна повратна спре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52280" y="3808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224" name="Picture 5" descr="tiroidea"/>
          <p:cNvPicPr/>
          <p:nvPr/>
        </p:nvPicPr>
        <p:blipFill>
          <a:blip r:embed="rId1"/>
          <a:stretch/>
        </p:blipFill>
        <p:spPr>
          <a:xfrm>
            <a:off x="6629400" y="838080"/>
            <a:ext cx="2286000" cy="155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ТИРОКСИН И ТРИЈОДТИРО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еривати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тирозина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, неопходан 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Лучење: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TRH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T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Циљна ткива –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св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ткива орган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Стимулишу синтезу проте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себно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ензим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респираторног ла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Регулишу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енергетски метаболизам ћел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ранспортуј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везани за глобулине крвне пла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236160" y="304920"/>
            <a:ext cx="85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Синтеза хормона штитасте жлез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9" descr="en13fig01"/>
          <p:cNvPicPr/>
          <p:nvPr/>
        </p:nvPicPr>
        <p:blipFill>
          <a:blip r:embed="rId1"/>
          <a:stretch/>
        </p:blipFill>
        <p:spPr>
          <a:xfrm>
            <a:off x="4876920" y="4379760"/>
            <a:ext cx="4190760" cy="24782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0" y="1143000"/>
            <a:ext cx="85345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Јод се у организам уноси исхр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Преузимањ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у тиреоидеу -  специфична пу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 активним транспорт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котранспорт Ј</a:t>
            </a:r>
            <a:r>
              <a:rPr b="0" lang="sr-C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sr-C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ћелиј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 У тиреоцитима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бсорбовани Ј</a:t>
            </a:r>
            <a:r>
              <a:rPr b="0" lang="sr-C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се оксиду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ејством пероксидаза и уграђује у тирозинске остат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иреоглобулина (органификација Ј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4" descr=""/>
          <p:cNvPicPr/>
          <p:nvPr/>
        </p:nvPicPr>
        <p:blipFill>
          <a:blip r:embed="rId2"/>
          <a:stretch/>
        </p:blipFill>
        <p:spPr>
          <a:xfrm>
            <a:off x="0" y="4430880"/>
            <a:ext cx="46483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en13fig01"/>
          <p:cNvPicPr/>
          <p:nvPr/>
        </p:nvPicPr>
        <p:blipFill>
          <a:blip r:embed="rId1"/>
          <a:stretch/>
        </p:blipFill>
        <p:spPr>
          <a:xfrm>
            <a:off x="0" y="114624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838080" y="380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Синтеза хормона штитаст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388800" y="-117360"/>
            <a:ext cx="85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интеза хормона штитасте жлез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6320" y="735120"/>
            <a:ext cx="9067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грађивањем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1 атома ЈО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астаје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онојод-тироз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давањем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2 атома јо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иреоглобулину настаје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јод-тироз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пајањем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2 дијод-тирозин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ст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ирокс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ли тетрајод-тиронин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Т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пајањем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оно и дијодотиро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стаје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ријод-тиронин (Т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 Т3 и Т4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дејство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лобађају из депоа ендоцитоз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олои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дејством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идролитичких енз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лизозом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слобађају се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ндозом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 прелазе у крво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23-9"/>
          <p:cNvPicPr/>
          <p:nvPr/>
        </p:nvPicPr>
        <p:blipFill>
          <a:blip r:embed="rId1"/>
          <a:stretch/>
        </p:blipFill>
        <p:spPr>
          <a:xfrm>
            <a:off x="5524560" y="219060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23-8"/>
          <p:cNvPicPr/>
          <p:nvPr/>
        </p:nvPicPr>
        <p:blipFill>
          <a:blip r:embed="rId1"/>
          <a:stretch/>
        </p:blipFill>
        <p:spPr>
          <a:xfrm>
            <a:off x="419040" y="804960"/>
            <a:ext cx="830592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thycell%20complete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6"/>
          <p:cNvSpPr/>
          <p:nvPr/>
        </p:nvSpPr>
        <p:spPr>
          <a:xfrm>
            <a:off x="1369440" y="228600"/>
            <a:ext cx="53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еханизам дејства Т4 и Т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00080" y="923760"/>
            <a:ext cx="9064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3 и Т4 се транспортују кроз крвоток везани за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иреоглобу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ранспортне протеине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BG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гулишу метаболичке процесе везивањем за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воје једар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рецепторе у ћелијама свих ткива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ше експресију гена за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интез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труктурних и функционал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нзима – респираторног ла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гулишу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нергетски метаболи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градња холестерола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интезу хормона 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9" descr="figure"/>
          <p:cNvPicPr/>
          <p:nvPr/>
        </p:nvPicPr>
        <p:blipFill>
          <a:blip r:embed="rId1"/>
          <a:stretch/>
        </p:blipFill>
        <p:spPr>
          <a:xfrm>
            <a:off x="5105520" y="337176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Дејство хормона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Морфогенеза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лога у настанку мушких и женских полних карактеристика (полни хормо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Интегративно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</a:rPr>
              <a:t>Одређен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ормон делује на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</a:rPr>
              <a:t>одређен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иох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роцес и метаболичку активност једног орг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Могу да делују и хормони синтетисани у раз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ендокриним жлездама (инсули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глукагон, хорм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раста, кортизол, адренал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Т3 и Т4 –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убрзање базалног метабол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анаболички ефекти на синтезу  и ф-ју структурних проте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одстичу метаболизам угљен. хид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оспешују разградњу холестер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стимулишу синтезу иРНК, одговорну за синтез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Т3 и Т4 –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ишу метаболизам витам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, развој и сексуално сазревање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лакшавају осетљивост на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 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рецепторе катехолам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965240" y="9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37840" y="152280"/>
            <a:ext cx="46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еханизам дејства Т4 и Т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2280" y="855720"/>
            <a:ext cx="9296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опходни за развој CNS код де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достатак Т3 и Т4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ХИПОТИРЕОДИЗА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-гушавос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д деце доводи до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менталне ретарда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недостатак ј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д одраслих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Хашимото тиреодитис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аутоимуна болес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имарни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ро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ни недостак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штитасте жлез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Дефицит хормона хипофиз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TSH) – секундар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Дефицит хормона хипоталамус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TRH) терцијар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отиреоиди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имптоми: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ојазност, сањивост,заборавност,лако умарање, успорен гово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ва кожа,мишићна хипотонија, преосетљивост на хладноћ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епре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Image result for hipotireoza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998280" y="45720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пертиреодиз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18320" y="1295280"/>
            <a:ext cx="8975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већана концентрација циркулишућих Т4 и Т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% жена и 0.2% мушкара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импто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убитак телесне тежине, узнемиреност, тахикардиј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иперактивност, изразито знојење, нетолеран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оплоте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7" descr="/hyperthyroidism means the thyroid produces too much hormone."/>
          <p:cNvPicPr/>
          <p:nvPr/>
        </p:nvPicPr>
        <p:blipFill>
          <a:blip r:embed="rId1"/>
          <a:stretch/>
        </p:blipFill>
        <p:spPr>
          <a:xfrm>
            <a:off x="6438960" y="4846680"/>
            <a:ext cx="27050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алцитонин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ротеинск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егулише метаболиза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и фосф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Лучи се у хиперкалцемиј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0" lang="sr-Latn-R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sr-Latn-R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у крвној плаз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инхибира активност остеокл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повећава излучива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ур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е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Ca</a:t>
            </a:r>
            <a:r>
              <a:rPr b="0" lang="sr-Latn-RS" sz="2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у кр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оштано ткиво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- активира остеокласте и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мобилизацију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sr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из</a:t>
            </a:r>
            <a:r>
              <a:rPr b="0" lang="sr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кост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Бубрез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- повећава реапсорпцију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sr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- завршна хидроксилација витамина 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Танко црево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↑ апсорпцију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sr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из хране преко вит.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paratiroidne"/>
          <p:cNvPicPr/>
          <p:nvPr/>
        </p:nvPicPr>
        <p:blipFill>
          <a:blip r:embed="rId1"/>
          <a:stretch/>
        </p:blipFill>
        <p:spPr>
          <a:xfrm>
            <a:off x="5715000" y="53352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аратхормон -</a:t>
            </a:r>
            <a:r>
              <a:rPr b="1" lang="sl-SI" sz="3200" spc="-1" strike="noStrike">
                <a:solidFill>
                  <a:srgbClr val="ffff00"/>
                </a:solidFill>
                <a:latin typeface="Arial"/>
              </a:rPr>
              <a:t> PTH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8991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а функционисање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органи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неопходно је да постоји комуникација између ћелиј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нервни, ендокрини, паракрини и аутокрини, и имун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ск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The weight of leptin in immunity"/>
          <p:cNvPicPr/>
          <p:nvPr/>
        </p:nvPicPr>
        <p:blipFill>
          <a:blip r:embed="rId1"/>
          <a:stretch/>
        </p:blipFill>
        <p:spPr>
          <a:xfrm>
            <a:off x="1447920" y="2666880"/>
            <a:ext cx="6673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377640" y="380880"/>
            <a:ext cx="60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Х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ормони надбубрежн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228600" y="1041480"/>
            <a:ext cx="89154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Хормони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срж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надбубрежне жлезд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катехоламин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деривати тирозина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допа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норадренал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адрена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Хормони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кор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надбубрежне жлезд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с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стероид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деривати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лестерол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Минералокортикостероид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алдостер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Глукокортикостероид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кортизо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Андроге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тестостерон, естроген, прогестерон)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nadbubrezi"/>
          <p:cNvPicPr/>
          <p:nvPr/>
        </p:nvPicPr>
        <p:blipFill>
          <a:blip r:embed="rId1"/>
          <a:stretch/>
        </p:blipFill>
        <p:spPr>
          <a:xfrm>
            <a:off x="5896080" y="1447920"/>
            <a:ext cx="3247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287640" y="0"/>
            <a:ext cx="88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интеза хормона сржи надбубрежних жл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adrenalin_synth"/>
          <p:cNvPicPr/>
          <p:nvPr/>
        </p:nvPicPr>
        <p:blipFill>
          <a:blip r:embed="rId1"/>
          <a:stretch/>
        </p:blipFill>
        <p:spPr>
          <a:xfrm>
            <a:off x="5867280" y="609480"/>
            <a:ext cx="3200400" cy="62485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0" y="1143000"/>
            <a:ext cx="59436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Тирозин настаје из есенцијалне АК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Фенилаланина или се уноси исхрано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00"/>
                </a:solidFill>
                <a:latin typeface="Arial"/>
              </a:rPr>
              <a:t>Тирозин хидроксилаза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преводи </a:t>
            </a:r>
            <a:r>
              <a:rPr b="0" lang="sr-CS" sz="2300" spc="-1" strike="noStrike">
                <a:solidFill>
                  <a:srgbClr val="ffff00"/>
                </a:solidFill>
                <a:latin typeface="Arial"/>
              </a:rPr>
              <a:t>тирозин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у дихидроксифенилаланин </a:t>
            </a:r>
            <a:r>
              <a:rPr b="1" lang="sr-CS" sz="23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sr-Latn-CS" sz="2300" spc="-1" strike="noStrike" u="sng">
                <a:solidFill>
                  <a:srgbClr val="ffff00"/>
                </a:solidFill>
                <a:uFillTx/>
                <a:latin typeface="Arial"/>
              </a:rPr>
              <a:t>DOPA</a:t>
            </a:r>
            <a:r>
              <a:rPr b="1" lang="sr-CS" sz="23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ff00"/>
                </a:solidFill>
                <a:latin typeface="Arial"/>
              </a:rPr>
              <a:t>DOPA</a:t>
            </a:r>
            <a:r>
              <a:rPr b="0" lang="sr-CS" sz="2300" spc="-1" strike="noStrike">
                <a:solidFill>
                  <a:srgbClr val="ffff00"/>
                </a:solidFill>
                <a:latin typeface="Arial"/>
              </a:rPr>
              <a:t> декарбоксилаза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декарбоксилиш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DOPU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1" lang="sr-CS" sz="2300" spc="-1" strike="noStrike" u="sng">
                <a:solidFill>
                  <a:srgbClr val="ffff00"/>
                </a:solidFill>
                <a:uFillTx/>
                <a:latin typeface="Arial"/>
              </a:rPr>
              <a:t>допамин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00"/>
                </a:solidFill>
                <a:latin typeface="Arial"/>
              </a:rPr>
              <a:t>Допамин хидроксилаза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преводи допамин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1" lang="sr-CS" sz="2300" spc="-1" strike="noStrike" u="sng">
                <a:solidFill>
                  <a:srgbClr val="ffff00"/>
                </a:solidFill>
                <a:uFillTx/>
                <a:latin typeface="Arial"/>
              </a:rPr>
              <a:t>норадреналин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00"/>
                </a:solidFill>
                <a:latin typeface="Arial"/>
              </a:rPr>
              <a:t>Фенилетаноламин-Н-Метил трансфераза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врши метилацију норадреналина у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00"/>
                </a:solidFill>
                <a:latin typeface="Arial"/>
              </a:rPr>
              <a:t>адреналин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помоћу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АМ-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0880" y="380880"/>
            <a:ext cx="72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дреналин - метаболички еф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12760" y="6192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98"/>
          <p:cNvPicPr/>
          <p:nvPr/>
        </p:nvPicPr>
        <p:blipFill>
          <a:blip r:embed="rId1"/>
          <a:stretch/>
        </p:blipFill>
        <p:spPr>
          <a:xfrm>
            <a:off x="6435720" y="4800600"/>
            <a:ext cx="2708280" cy="2057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228600" y="1285920"/>
            <a:ext cx="95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кладишти се у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везикулама сржи надб. жлез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лобађа се путем егзоцит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дренергичних рецептора у мембранама ћел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рецептори активирај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G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отеине и синтез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A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лучи се у условима ХИПОГЛИК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Циљна ткива :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јетра, мишићи, масно ткиво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00"/>
                </a:solidFill>
                <a:latin typeface="Symbol"/>
                <a:ea typeface="Symbol"/>
              </a:rPr>
              <a:t>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Јетра и мишић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ктивација гликогенолиз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нхибиција гликогене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асно ткив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ктивација липолиз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нхибиција липогене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дреналин -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ом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лизе и глуконеогенез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ниво глукозе у к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антагониста инсул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пешује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липолизу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масном ткиву 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сних киселина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а периферна  ткива (штеди глуко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83400" y="380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52280" y="1143000"/>
            <a:ext cx="937260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Повећав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снагу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срчане контракције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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раст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фреквенције рада срца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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Вазоконстрикц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рв. судова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периферних ткива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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Вазодилатац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рв. судова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мозга, срца, плућа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ffff00"/>
                </a:solidFill>
                <a:latin typeface="Symbol"/>
                <a:ea typeface="Symbol"/>
              </a:rPr>
              <a:t>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ирење зеница (МИДРИЈАЗА)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нтракциј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.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lata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Адреналин – у условима стре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2116440" y="10152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нактивација адрена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" descr="Nerve communication"/>
          <p:cNvPicPr/>
          <p:nvPr/>
        </p:nvPicPr>
        <p:blipFill>
          <a:blip r:embed="rId1"/>
          <a:stretch/>
        </p:blipFill>
        <p:spPr>
          <a:xfrm>
            <a:off x="5181480" y="990720"/>
            <a:ext cx="3962520" cy="56386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5636880" y="6278400"/>
            <a:ext cx="810000" cy="2764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drena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8389800" y="3200400"/>
            <a:ext cx="810000" cy="2764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drena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7246800" y="1600200"/>
            <a:ext cx="810000" cy="2764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drena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75600" y="1112760"/>
            <a:ext cx="525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дреналин се инактиви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апсорпцијом у нервне завршет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цитоплазми нервних заврше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разграђује под деј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оноамино оксидазе (МАО)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атехоламин-О-метилтрансфер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OMT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изводи деградације с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етанефрин, Хемовалинск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Ванил-манделична киселина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MA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MA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одређује у ур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феохромоцит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490320" y="3049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Липосолубилни - стероидни хормо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228600" y="122544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интеза из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ОЛЕСТЕР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ортикостероид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Минералкортикоиди (алдостерон)- спољашњи сло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р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дбубре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укокортикоиди: (кортизол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средњи слој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ре над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дренални андрогени и естрогени (прогестерон 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страдиол, тестостерон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унутрашњи слој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ре над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ндроге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тестостерон) - мушке полне жлез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строге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прогестерон и естрадиол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женске  полн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8160" y="1141200"/>
            <a:ext cx="9105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 првој р-ји биосинтетичког пута стероидних хормона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з холестерола настај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прегненоло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једнички за све три врсте стероидних хормо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 прегненолона  се гради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прогестеро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ји се мења ток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иза реакција и као крајњи производ настаје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алдостерон (минералкортикоид)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Од свих р-ја посебно је значајна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оксидација метил групе у положају 1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лукокортикои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се синтетишу такођ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из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прогестеро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који с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хидроксилише у положају 17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а из овог интермедијата настаје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кортизол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 истог интермедијата синтетишу се и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адренални полни хормони, андрогени и естроге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Естроген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су хормони са најмањим броје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љен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тома у молекул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Синтетишу с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одвајањем метил групе у положају 19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81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образовањем једног ароматичног прст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03600" y="0"/>
            <a:ext cx="71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интеза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тероидн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хормо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312200" y="0"/>
            <a:ext cx="64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Синтеза стероидних хормо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steroidogen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762120"/>
            <a:ext cx="6324480" cy="5943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1447920" y="1819440"/>
            <a:ext cx="190476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276720" y="4724280"/>
            <a:ext cx="1676160" cy="838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1523880" y="5638680"/>
            <a:ext cx="1752840" cy="99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1447920" y="2666880"/>
            <a:ext cx="1676160" cy="99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334120" y="4724280"/>
            <a:ext cx="16761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6324480" y="3733920"/>
            <a:ext cx="13716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Arial"/>
                <a:ea typeface="Arial"/>
              </a:rPr>
              <a:t>Катаболизам стероидних хормона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Ј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њугациј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а глукуронском и сумпорном кисел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болизмом гликокортикои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→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17- хидроксикортикостерои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болизмом андрог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→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17- кетостерои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-38124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Arial"/>
              </a:rPr>
              <a:t>НЕРВНИ СИСТЕМ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 (централни и периферни) -  електричних и </a:t>
            </a:r>
            <a:r>
              <a:rPr b="0" lang="sl-SI" sz="3600" spc="-1" strike="noStrike">
                <a:solidFill>
                  <a:srgbClr val="ffff00"/>
                </a:solidFill>
                <a:latin typeface="Arial"/>
              </a:rPr>
              <a:t>неуротрансмитерских сигнала и рефлексних луко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Control and Communication"/>
          <p:cNvPicPr/>
          <p:nvPr/>
        </p:nvPicPr>
        <p:blipFill>
          <a:blip r:embed="rId1"/>
          <a:stretch/>
        </p:blipFill>
        <p:spPr>
          <a:xfrm>
            <a:off x="2057400" y="3048120"/>
            <a:ext cx="480060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455040" y="228600"/>
            <a:ext cx="58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ункци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тероидних хорм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04920" y="914400"/>
            <a:ext cx="90676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Кортизол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– активира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луконеогенезу, протеолиз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хибира синтезу проте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Алдостерон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– ефекат на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a, K-ATP-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аз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бубрез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реапсорпциј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излучивањ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+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+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Прогестерон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државању трудноће, развој млеч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строген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– пролиферација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ндометрију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менструални циклус, развој костију, развој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секундарних женских карактери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Тестостерон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перматогенеза, развој секундарних мушких карактеристика; стимулише синтезу проте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тресни хорм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R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→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AC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ау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фекциј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аке топлоте/ хладноћ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руршке интервен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мотивног стр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ртизол-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560" y="19051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у глуко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аминокисел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масних киселина у к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ише глуконео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дукцијом енз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билизацијом аминокисе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мишићи,адипозно, лимфно ткив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ртизол-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052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ва катаболизам ма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глицерола у к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хибира преузимање глукоз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болизам протеина  у периферним ткивима и ↓ њихову синт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јетри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држај проте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-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у глукозе у крв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гликогенолизу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глуконеогенезу у јет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инхибира гликоли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поспешује протеолизу и липолизу у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ишићном и масном тки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 - остал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нтиинфламатор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локира фосфолипазу А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нтиедематоз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↓  пропустљивост капилара - ↓ смањ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лобађање хистам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муносупресивн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хибира активност Т пом. лимфоцита,  спречава ослобађање интерлеукина 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Кортикостероиди - употреба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52280" y="19051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преднизолон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метилпреднизолон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дексаметаз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аст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аутоиму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алергијских реак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едема моз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спречавања одбацивања трансплан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49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ffff"/>
                </a:solidFill>
                <a:latin typeface="Arial"/>
              </a:rPr>
              <a:t>Хормони полних жлезда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9" name="Picture 7" descr="jajnici"/>
          <p:cNvPicPr/>
          <p:nvPr/>
        </p:nvPicPr>
        <p:blipFill>
          <a:blip r:embed="rId1"/>
          <a:stretch/>
        </p:blipFill>
        <p:spPr>
          <a:xfrm>
            <a:off x="914400" y="4191120"/>
            <a:ext cx="3962520" cy="2184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testisi"/>
          <p:cNvPicPr/>
          <p:nvPr/>
        </p:nvPicPr>
        <p:blipFill>
          <a:blip r:embed="rId2"/>
          <a:stretch/>
        </p:blipFill>
        <p:spPr>
          <a:xfrm>
            <a:off x="5410080" y="3962520"/>
            <a:ext cx="2210040" cy="2479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4"/>
          <p:cNvSpPr/>
          <p:nvPr/>
        </p:nvSpPr>
        <p:spPr>
          <a:xfrm>
            <a:off x="228600" y="1324080"/>
            <a:ext cx="960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уче се под дејством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FSH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LH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 аденохипофи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Лејдигове ћелије тестиса луче тестосте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Оваријум (јајници) луче естроген и прогесте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огени - тестостерон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-19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терои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значајнији андроге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Leydig-ove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ћелије тес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мањим делом у кори надбубре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L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тимулише секрецију тестос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SH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ише спермато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огени - тестостерон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ан за глобули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не пла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3% у слободном обл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ћелијама циљних тки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ихидротестостеро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5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редуктаз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Рецептори – цитоплазмат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синтезу иРНК и синтезу проте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-30492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Arial"/>
              </a:rPr>
              <a:t>ЕНДОКРИНИ СИСТЕМ</a:t>
            </a:r>
            <a:r>
              <a:rPr b="1" lang="sr-R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 различит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жлезд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синтетиш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секретуј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хормоне у кр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физиолошке ефект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циљн</a:t>
            </a: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l-SI" sz="4000" spc="-1" strike="noStrike">
                <a:solidFill>
                  <a:srgbClr val="ffffff"/>
                </a:solidFill>
                <a:latin typeface="Arial"/>
              </a:rPr>
              <a:t>кив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инсулин, глукагон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Picture of the Endocrine System"/>
          <p:cNvPicPr/>
          <p:nvPr/>
        </p:nvPicPr>
        <p:blipFill>
          <a:blip r:embed="rId1"/>
          <a:stretch/>
        </p:blipFill>
        <p:spPr>
          <a:xfrm>
            <a:off x="6019920" y="3038400"/>
            <a:ext cx="3124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Тестостерон - метаболички ефект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вој примарних и секундарних полних карактери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наболички ефек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развој коштаног и мишић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синтеза проте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синтеза масних кис. и холестер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на разградња угљених хид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понова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a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P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коштаном тки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Естрогени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ајници (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фаза менструалног циклус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лацента – у трудноћ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S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развој фоликула и синтеза естрогена и естради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L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овулација, стварање жутог тела и синтеза прогесте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Arial"/>
                <a:ea typeface="Arial"/>
              </a:rPr>
              <a:t>Естрогени</a:t>
            </a:r>
            <a:r>
              <a:rPr b="0" lang="sr-RS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вој утеруса, вагине, вул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раста дуктуса млечних жл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 ендометријума (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фаза менструалног циклус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теобластна активност кошта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DL-a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↓LDL-a (antiarteriosklerotično dejst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ивоа фактора коагулације у к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Прогестерон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креторне промене у ендометријуму       припрема материце за имплантацију оплођене јајне ћелије (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II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половина циклус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вој алвеола млечн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ње температуре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пресивно дејство на Ц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Documents and Settings\Aleksandar\My Documents\My Pictures\mestr cik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Инсулин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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ћелије ендокриног панкреас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Глукагон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ћелије ендокриног панкреас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Антагонистички ефека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и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нсулин смањ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l-SI" sz="2800" spc="-1" strike="noStrike">
                <a:solidFill>
                  <a:srgbClr val="ffff00"/>
                </a:solidFill>
                <a:latin typeface="Arial"/>
              </a:rPr>
              <a:t>глукагон повећава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ниво глукозе у кр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7" descr="pankreas"/>
          <p:cNvPicPr/>
          <p:nvPr/>
        </p:nvPicPr>
        <p:blipFill>
          <a:blip r:embed="rId1"/>
          <a:stretch/>
        </p:blipFill>
        <p:spPr>
          <a:xfrm>
            <a:off x="6858000" y="5181480"/>
            <a:ext cx="2286000" cy="14432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1"/>
          <p:cNvSpPr/>
          <p:nvPr/>
        </p:nvSpPr>
        <p:spPr>
          <a:xfrm>
            <a:off x="380880" y="685800"/>
            <a:ext cx="61722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ХОРМОНИ ПАНКРЕА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1319040" y="106200"/>
            <a:ext cx="66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ормони ендокриног панкреас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УЛИН и Глукаг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7" descr="figure19c"/>
          <p:cNvPicPr/>
          <p:nvPr/>
        </p:nvPicPr>
        <p:blipFill>
          <a:blip r:embed="rId1"/>
          <a:stretch/>
        </p:blipFill>
        <p:spPr>
          <a:xfrm>
            <a:off x="1295280" y="1523880"/>
            <a:ext cx="670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insulin"/>
          <p:cNvPicPr/>
          <p:nvPr/>
        </p:nvPicPr>
        <p:blipFill>
          <a:blip r:embed="rId1"/>
          <a:stretch/>
        </p:blipFill>
        <p:spPr>
          <a:xfrm>
            <a:off x="5638680" y="457200"/>
            <a:ext cx="3429000" cy="57913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453240" y="22860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ИНСУ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55600" y="914400"/>
            <a:ext cx="56595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ва полипептидна ланца –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А (21 АК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(30 АК)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спојени са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ва дисулфид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оста.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рећи дисулфидн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мост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алази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нутар А лан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аскидањем дисулфидних мост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е губи активност инсул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 панкреасу, прво се синтетиш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еактивни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епроинсулин (108АК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двајањем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краја (24 АК)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наста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оинсулин (84 АК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Хидролитичким одвајањем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пептид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(33АК)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астаје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иолошки активни инсули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536760" y="457200"/>
            <a:ext cx="26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ИНСУЛ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04920" y="1447920"/>
            <a:ext cx="8528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пептид и инсулин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е луче у еквимоларним количин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ређивањем конц. Ц-пептида у плаз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ређује се и количина излученог инсу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концентрација глукозе у крви 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синтезу и лучење инсу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Главни ефекат инсулина је ХИПОГЛИКЕ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22-12"/>
          <p:cNvPicPr/>
          <p:nvPr/>
        </p:nvPicPr>
        <p:blipFill>
          <a:blip r:embed="rId1"/>
          <a:stretch/>
        </p:blipFill>
        <p:spPr>
          <a:xfrm>
            <a:off x="4152960" y="3581280"/>
            <a:ext cx="4991040" cy="31244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529920" y="2286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8600" y="533520"/>
            <a:ext cx="9144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Везивањем инсулина за </a:t>
            </a:r>
            <a:r>
              <a:rPr b="0" lang="sr-CS" sz="2300" spc="-1" strike="noStrike">
                <a:solidFill>
                  <a:srgbClr val="ffff00"/>
                </a:solidFill>
                <a:latin typeface="Arial"/>
              </a:rPr>
              <a:t>тирозин киназне рецепторе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аутофосфорилације-активације рецептор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Активна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К каскадом сигналне трансдукције </a:t>
            </a:r>
            <a:r>
              <a:rPr b="0" lang="sr-Latn-CS" sz="2300" spc="-1" strike="noStrike">
                <a:solidFill>
                  <a:srgbClr val="ffff00"/>
                </a:solidFill>
                <a:latin typeface="Arial"/>
              </a:rPr>
              <a:t>фосфорилише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нтрацелуларне протеине (</a:t>
            </a:r>
            <a:r>
              <a:rPr b="0" lang="sr-Latn-CS" sz="2300" spc="-1" strike="noStrike">
                <a:solidFill>
                  <a:srgbClr val="ffff00"/>
                </a:solidFill>
                <a:latin typeface="Arial"/>
              </a:rPr>
              <a:t>ФОСФАТАЗЕ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) и  актив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ир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ензим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2300" spc="-1" strike="noStrike">
                <a:solidFill>
                  <a:srgbClr val="ffff00"/>
                </a:solidFill>
                <a:latin typeface="Arial"/>
              </a:rPr>
              <a:t>гликолизе, гликогенезе, липогенезе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r-Latn-CS" sz="2300" spc="-1" strike="noStrike">
                <a:solidFill>
                  <a:srgbClr val="ffff00"/>
                </a:solidFill>
                <a:latin typeface="Arial"/>
              </a:rPr>
              <a:t>ранспорт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0" lang="sr-Latn-CS" sz="2300" spc="-1" strike="noStrike">
                <a:solidFill>
                  <a:srgbClr val="ffff00"/>
                </a:solidFill>
                <a:latin typeface="Arial"/>
              </a:rPr>
              <a:t>лукозе из крви у јетру, мишиће и масно ткив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2355840" cy="31384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2286000" y="3765600"/>
            <a:ext cx="144792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mesta vezivanja insul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362320" y="5334120"/>
            <a:ext cx="1447560" cy="1159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Unutrašnji delovi receptora-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enzim tirozin kin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-685800"/>
            <a:ext cx="86868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Arial"/>
              </a:rPr>
              <a:t>ПАРАКРИНИ И АУТОКРИНИ СИСТЕМ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, који синтетише и секретује супстанце у </a:t>
            </a:r>
            <a:r>
              <a:rPr b="0" lang="sl-SI" sz="3600" spc="-1" strike="noStrike">
                <a:solidFill>
                  <a:srgbClr val="ffff00"/>
                </a:solidFill>
                <a:latin typeface="Arial"/>
              </a:rPr>
              <a:t>интерцелуларни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 простор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 које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модификују функцију ћелија </a:t>
            </a:r>
            <a:r>
              <a:rPr b="0" lang="sl-SI" sz="3200" spc="-1" strike="noStrike">
                <a:solidFill>
                  <a:srgbClr val="ffff00"/>
                </a:solidFill>
                <a:latin typeface="Arial"/>
              </a:rPr>
              <a:t>без уласка у крвоток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(инсулин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мони гастроинтестиналног тракта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An external file that holds a picture, illustration, etc., usually as some form of binary object. The name of referred object is ch3f1.jpg. "/>
          <p:cNvPicPr/>
          <p:nvPr/>
        </p:nvPicPr>
        <p:blipFill>
          <a:blip r:embed="rId1"/>
          <a:stretch/>
        </p:blipFill>
        <p:spPr>
          <a:xfrm>
            <a:off x="2057400" y="3429000"/>
            <a:ext cx="4724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ранспорт глукозе из крви у ћелије инсулин зависних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ишић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сно тк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елимично јет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сулин независна ткива с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рвно ткиво  и ћелије к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У инсулин зависним ткиви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стимулише гликолизу и ХМП ш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У јетр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стимулише глико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инхбира гликогеноли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У масном ткив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- активира липо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Стимулише синтезу проте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152640" y="2057400"/>
            <a:ext cx="92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Arial"/>
              </a:rPr>
              <a:t>ИСПОЉАВА СНАЖНЕ </a:t>
            </a:r>
            <a:r>
              <a:rPr b="1" lang="sr-RS" sz="4000" spc="-1" strike="noStrike">
                <a:solidFill>
                  <a:srgbClr val="ffff00"/>
                </a:solidFill>
                <a:latin typeface="Arial"/>
              </a:rPr>
              <a:t>АНАБОЛИЧКЕ ЕФЕКТ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Arial"/>
              </a:rPr>
              <a:t>НА МЕТАБОЛИЗАМ УГЉЕНИХ ХИДРАТА, МАСТИ И ПРОТЕИН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iabetes-glucose-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insulineffects"/>
          <p:cNvPicPr/>
          <p:nvPr/>
        </p:nvPicPr>
        <p:blipFill>
          <a:blip r:embed="rId1"/>
          <a:stretch/>
        </p:blipFill>
        <p:spPr>
          <a:xfrm>
            <a:off x="1600200" y="1752480"/>
            <a:ext cx="632448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465480" y="609480"/>
            <a:ext cx="83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погликеми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чни ефекат инсу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 flipV="1">
            <a:off x="57150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5562720" y="44956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 flipH="1">
            <a:off x="5562720" y="4572000"/>
            <a:ext cx="30456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Diabetes melli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бољење праћено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ронично високим концентрацијама глукозе у крв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7,8 mmol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диц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псолутно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релативног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а инсу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6320" y="3048120"/>
            <a:ext cx="9372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нсулин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ЗАВИСН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llitus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ип1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нсулин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НЕЗАВИСН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llitus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ип2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6" descr="insulin2 copy"/>
          <p:cNvPicPr/>
          <p:nvPr/>
        </p:nvPicPr>
        <p:blipFill>
          <a:blip r:embed="rId1"/>
          <a:stretch/>
        </p:blipFill>
        <p:spPr>
          <a:xfrm>
            <a:off x="4952880" y="3048120"/>
            <a:ext cx="41911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ABETES MELLITUS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је клинички синдром праћен стањем хронично високих концентрација глукозе у кр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хипергликеми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основни знак ове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следица апсолутног или релативног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дефицита инсу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З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O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ефиниш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betes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llitu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као обољење на основу лабораторијских налаза у случајевима када 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иво глукозе у крви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већи од 7,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mol/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након периода ноћног гладовања, однос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нцентрација глукозе износи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више од 11,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mol/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два сата након узимања оброка богатог угљеним хидратима или оралног уношења глуко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Симптоми: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полидипсија, полиурија, полифаги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без добитка на теж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ABETES MELLITUS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60" name="Picture 3" descr="scooping[1]"/>
          <p:cNvPicPr/>
          <p:nvPr/>
        </p:nvPicPr>
        <p:blipFill>
          <a:blip r:embed="rId1"/>
          <a:stretch/>
        </p:blipFill>
        <p:spPr>
          <a:xfrm>
            <a:off x="762120" y="26542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insulin_resistance[1]"/>
          <p:cNvPicPr/>
          <p:nvPr/>
        </p:nvPicPr>
        <p:blipFill>
          <a:blip r:embed="rId2"/>
          <a:stretch/>
        </p:blipFill>
        <p:spPr>
          <a:xfrm>
            <a:off x="4648320" y="2717640"/>
            <a:ext cx="403848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Клиничко лабораторијски налази у шећерној болести: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Гликемија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налаз значајне хипергликемиј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постпрандијалн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(након оброка) глукоза у крв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хипергликемија преко 11,1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два сата и дуже након оброк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гликемија након оптерећења глукозом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хипергликемија преко 11,1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два  сата и дуже након оралног уношења 75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глукозе (глукоз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толеранс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тестов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лукоз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толеранс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тестови служе за мерење промена концентрације глукозе у крви након оралног или интравенског уношења глукозе у одређеном временском периоду (непосредно пре и у току 2 сата након давања глукозе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јчешће се овај тест изводи као </a:t>
            </a: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Arial"/>
              </a:rPr>
              <a:t>орални глукозо толеранс тест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. Пре давања глукозе узима се венска крв. Крв се узима у току два сат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почев од првог вађења крви у интервалима од по 30 мину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ормално је да се гликемија врати на вредност која је установљена пре оралног уношења глукозе након 2 са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утарњи ниво глукоз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– гликемија преко 7,8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, након периода ноћног  гладов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7:22:02Z</dcterms:created>
  <dc:creator>Voja</dc:creator>
  <dc:description/>
  <dc:language>en-US</dc:language>
  <cp:lastModifiedBy>snskg1</cp:lastModifiedBy>
  <dcterms:modified xsi:type="dcterms:W3CDTF">2022-08-23T10:41:33Z</dcterms:modified>
  <cp:revision>298</cp:revision>
  <dc:subject/>
  <dc:title>Slide 1</dc:title>
</cp:coreProperties>
</file>